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257588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884-CF03-4439-9AD1-3C4D0523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587700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CAC-DDD5-4285-A423-9F41E1F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005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224-4E69-4944-BD85-27E2E2BA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176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564200" y="281952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89176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0564200" y="5877000"/>
            <a:ext cx="444960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D02-783C-49AE-BD59-65D8B893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2D4-273F-4DD5-B0AA-E9D9DB9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2FC-A909-45AD-8F65-E7DD87B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EF-8629-4E0A-AEE4-C1469A4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7CF-DCAD-47C8-9DF8-455BDFF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866880"/>
            <a:ext cx="13818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70D-7FE9-4F4C-850E-B809CFF4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909-2825-48A2-A76B-D50512C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00520" y="587700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56A-5DF3-4950-BDEC-2E45079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00520" y="2819520"/>
            <a:ext cx="674352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5877000"/>
            <a:ext cx="13818960" cy="27918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729-EB8D-40BE-A9D3-A858A1A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866880"/>
            <a:ext cx="13818960" cy="16272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19520"/>
            <a:ext cx="13818960" cy="585288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rmAutofit fontScale="87000"/>
          </a:bodyPr>
          <a:p>
            <a:pPr marL="483120" indent="-4831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4046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615680" indent="-3225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262240" indent="-32292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2908440" indent="-32292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9320" y="8889840"/>
            <a:ext cx="338616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8889840"/>
            <a:ext cx="514800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2120" y="8889840"/>
            <a:ext cx="3386160" cy="64944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t">
            <a:noAutofit/>
          </a:bodyPr>
          <a:lstStyle>
            <a:lvl1pPr indent="0" algn="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  <a:defRPr b="0" lang="ja-JP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fld id="{C64B7918-2EE8-4943-BEB1-C0AB7F6977EF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616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13000"/>
              </a:srgbClr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16262280" cy="975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382000" y="1522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学生支援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3276360" cy="473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0560" y="30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？？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13791960" cy="914400"/>
          </a:xfrm>
          <a:prstGeom prst="rect">
            <a:avLst/>
          </a:prstGeom>
          <a:noFill/>
          <a:ln w="0">
            <a:noFill/>
          </a:ln>
        </p:spPr>
        <p:txBody>
          <a:bodyPr lIns="148680" rIns="148680" tIns="74160" bIns="74160" anchor="ctr">
            <a:noAutofit/>
          </a:bodyPr>
          <a:p>
            <a:pPr indent="0" algn="ctr">
              <a:buNone/>
              <a:tabLst>
                <a:tab algn="l" pos="0"/>
                <a:tab algn="l" pos="1486080"/>
                <a:tab algn="l" pos="2971800"/>
                <a:tab algn="l" pos="4457880"/>
                <a:tab algn="l" pos="5943600"/>
                <a:tab algn="l" pos="7429680"/>
                <a:tab algn="l" pos="8915400"/>
                <a:tab algn="l" pos="1040148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講義予定変更情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29600" y="1371600"/>
            <a:ext cx="7608960" cy="14508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457200" y="1371600"/>
            <a:ext cx="7608600" cy="1537560"/>
            <a:chOff x="457200" y="1371600"/>
            <a:chExt cx="7608600" cy="15375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760860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167200" y="21448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720" y="2144880"/>
              <a:ext cx="64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45920" y="2178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40280" y="2144880"/>
              <a:ext cx="64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360" y="1523880"/>
              <a:ext cx="586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939600" y="21207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52120" y="212076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218320" y="21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12680" y="2109960"/>
            <a:ext cx="64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字あたり文字あたり文字あたり文字あた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229600" y="2895480"/>
            <a:ext cx="7608960" cy="1556640"/>
            <a:chOff x="8229600" y="2895480"/>
            <a:chExt cx="7608960" cy="155664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8229600" y="2895480"/>
              <a:ext cx="760896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0295280" y="3535200"/>
              <a:ext cx="75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63120" y="296064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37360" y="3546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620160" y="3519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8680" y="3535200"/>
              <a:ext cx="75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7200" y="2895480"/>
            <a:ext cx="7608600" cy="1556640"/>
            <a:chOff x="457200" y="2895480"/>
            <a:chExt cx="7608600" cy="1556640"/>
          </a:xfrm>
        </p:grpSpPr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457200" y="2895480"/>
              <a:ext cx="76086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059200" y="3535200"/>
              <a:ext cx="75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0360" y="298764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文字あたり文字あたり文字あたり文字あた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7880" y="3546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57200" y="4495680"/>
            <a:ext cx="7608960" cy="1451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0440" y="455868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自由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3080" y="4648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由に入力し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3080" y="5410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由に入力し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1:33Z</dcterms:created>
  <dc:creator>山崎 英雄</dc:creator>
  <dc:description/>
  <dc:language>en-US</dc:language>
  <cp:lastModifiedBy>山崎 英雄</cp:lastModifiedBy>
  <dcterms:modified xsi:type="dcterms:W3CDTF">2008-03-23T16:25:06Z</dcterms:modified>
  <cp:revision>22</cp:revision>
  <dc:subject/>
  <dc:title>PowerPoint プレゼンテーション</dc:title>
</cp:coreProperties>
</file>