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257588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690-E751-4A38-8CE1-4C1E3A9A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587700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BEE-BC99-43E8-B07D-EE08023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005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150-4006-48AC-B6D5-F216372B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176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56420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89176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056420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ED4-3838-4C3D-8949-05CC5840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024-A174-47E7-94D6-74875E1E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448-5803-44E0-B389-F974516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51E-B1F3-4190-8644-75F402B4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D3C-2D46-4917-A599-30E05059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866880"/>
            <a:ext cx="13818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095-8532-487A-871C-C15234D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AB1-5D26-41DA-8709-7640C4B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005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120-435B-4A57-B594-4CD4AC8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F55-A8A1-48F7-8D9C-802DCD7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 fontScale="87000"/>
          </a:bodyPr>
          <a:p>
            <a:pPr marL="483120" indent="-4831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4046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615680" indent="-3225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262240" indent="-32292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9320" y="8889840"/>
            <a:ext cx="338616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8889840"/>
            <a:ext cx="514800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2120" y="8889840"/>
            <a:ext cx="338616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 algn="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fld id="{6826549C-9988-4D7C-BC6A-BC246B991AFF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616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13000"/>
              </a:srgbClr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16262280" cy="975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382000" y="1522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学生支援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3.jpeg"/><Relationship Id="rId21" Type="http://schemas.openxmlformats.org/officeDocument/2006/relationships/image" Target="../media/image6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3276360" cy="473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1040" y="3049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３月２１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13791960" cy="9144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講義予定変更情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944960" cy="94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9120" y="164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44640" y="1600200"/>
            <a:ext cx="5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2240" y="17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3760" y="16588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16064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41680" y="8991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38680" y="1219320"/>
            <a:ext cx="4945320" cy="1023480"/>
            <a:chOff x="5638680" y="1219320"/>
            <a:chExt cx="4945320" cy="102348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638680" y="1219320"/>
              <a:ext cx="494532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739560" y="1649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50160" y="16002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47760" y="1730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17480" y="1658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1295280"/>
              <a:ext cx="411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520" y="2225520"/>
            <a:ext cx="4944960" cy="1081080"/>
            <a:chOff x="533520" y="2225520"/>
            <a:chExt cx="4944960" cy="108108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33520" y="2286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99120" y="2712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4640" y="26640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42240" y="2793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32840" y="2705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2225520"/>
              <a:ext cx="4114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638680" y="2286000"/>
            <a:ext cx="4944960" cy="1020240"/>
            <a:chOff x="5638680" y="2286000"/>
            <a:chExt cx="4944960" cy="102024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5638680" y="2286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04280" y="2712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49800" y="266364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47400" y="2793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33320" y="2705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19560" y="234288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0744200" y="2286000"/>
            <a:ext cx="4944960" cy="1020240"/>
            <a:chOff x="10744200" y="2286000"/>
            <a:chExt cx="4944960" cy="1020240"/>
          </a:xfrm>
        </p:grpSpPr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10744200" y="2286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1809800" y="2712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55320" y="266364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652920" y="2793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040280" y="2705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25080" y="234288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520" y="4359240"/>
            <a:ext cx="4944960" cy="1053000"/>
            <a:chOff x="533520" y="4359240"/>
            <a:chExt cx="4944960" cy="1053000"/>
          </a:xfrm>
        </p:grpSpPr>
        <p:pic>
          <p:nvPicPr>
            <p:cNvPr id="83" name="" descr=""/>
            <p:cNvPicPr/>
            <p:nvPr/>
          </p:nvPicPr>
          <p:blipFill>
            <a:blip r:embed="rId6"/>
            <a:stretch/>
          </p:blipFill>
          <p:spPr>
            <a:xfrm>
              <a:off x="533520" y="441972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954080" y="4830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8280" y="4859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435924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49440" y="4859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21160" y="4830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638680" y="4419720"/>
            <a:ext cx="4944960" cy="992160"/>
            <a:chOff x="5638680" y="4419720"/>
            <a:chExt cx="4944960" cy="992160"/>
          </a:xfrm>
        </p:grpSpPr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5638680" y="4419720"/>
              <a:ext cx="494496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059240" y="4830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3440" y="4858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9560" y="448596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54600" y="4858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26320" y="4830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744200" y="4419720"/>
            <a:ext cx="4944960" cy="992160"/>
            <a:chOff x="10744200" y="4419720"/>
            <a:chExt cx="4944960" cy="992160"/>
          </a:xfrm>
        </p:grpSpPr>
        <p:pic>
          <p:nvPicPr>
            <p:cNvPr id="97" name="" descr=""/>
            <p:cNvPicPr/>
            <p:nvPr/>
          </p:nvPicPr>
          <p:blipFill>
            <a:blip r:embed="rId8"/>
            <a:stretch/>
          </p:blipFill>
          <p:spPr>
            <a:xfrm>
              <a:off x="10744200" y="4419720"/>
              <a:ext cx="494496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64760" y="4830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8960" y="4858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25080" y="448596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560120" y="4858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31840" y="4830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638680" y="3352680"/>
            <a:ext cx="4944960" cy="1001880"/>
            <a:chOff x="5638680" y="3352680"/>
            <a:chExt cx="4944960" cy="1001880"/>
          </a:xfrm>
        </p:grpSpPr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5638680" y="335268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54320" y="3773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92200" y="3784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560" y="342864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0752120" y="3352680"/>
            <a:ext cx="4944960" cy="1001880"/>
            <a:chOff x="10752120" y="3352680"/>
            <a:chExt cx="4944960" cy="1001880"/>
          </a:xfrm>
        </p:grpSpPr>
        <p:pic>
          <p:nvPicPr>
            <p:cNvPr id="109" name="" descr=""/>
            <p:cNvPicPr/>
            <p:nvPr/>
          </p:nvPicPr>
          <p:blipFill>
            <a:blip r:embed="rId10"/>
            <a:stretch/>
          </p:blipFill>
          <p:spPr>
            <a:xfrm>
              <a:off x="10752120" y="335268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1867760" y="3773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05640" y="3784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33000" y="342864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3520" y="5413320"/>
            <a:ext cx="4944960" cy="1023480"/>
            <a:chOff x="533520" y="5413320"/>
            <a:chExt cx="4944960" cy="1023480"/>
          </a:xfrm>
        </p:grpSpPr>
        <p:pic>
          <p:nvPicPr>
            <p:cNvPr id="114" name="" descr=""/>
            <p:cNvPicPr/>
            <p:nvPr/>
          </p:nvPicPr>
          <p:blipFill>
            <a:blip r:embed="rId11"/>
            <a:stretch/>
          </p:blipFill>
          <p:spPr>
            <a:xfrm>
              <a:off x="533520" y="541332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599120" y="5843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44640" y="57942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2240" y="592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1960" y="5852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547380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38680" y="5413320"/>
            <a:ext cx="4944960" cy="1023480"/>
            <a:chOff x="5638680" y="5413320"/>
            <a:chExt cx="4944960" cy="1023480"/>
          </a:xfrm>
        </p:grpSpPr>
        <p:pic>
          <p:nvPicPr>
            <p:cNvPr id="121" name="" descr=""/>
            <p:cNvPicPr/>
            <p:nvPr/>
          </p:nvPicPr>
          <p:blipFill>
            <a:blip r:embed="rId12"/>
            <a:stretch/>
          </p:blipFill>
          <p:spPr>
            <a:xfrm>
              <a:off x="5638680" y="541332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739560" y="5843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0160" y="57942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7760" y="592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15680" y="5852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560" y="5533920"/>
              <a:ext cx="411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744200" y="5413320"/>
            <a:ext cx="4944960" cy="1023480"/>
            <a:chOff x="10744200" y="5413320"/>
            <a:chExt cx="4944960" cy="1023480"/>
          </a:xfrm>
        </p:grpSpPr>
        <p:pic>
          <p:nvPicPr>
            <p:cNvPr id="128" name="" descr=""/>
            <p:cNvPicPr/>
            <p:nvPr/>
          </p:nvPicPr>
          <p:blipFill>
            <a:blip r:embed="rId13"/>
            <a:stretch/>
          </p:blipFill>
          <p:spPr>
            <a:xfrm>
              <a:off x="10744200" y="541332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845080" y="5843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55680" y="57942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53280" y="592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21200" y="5852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25080" y="5533920"/>
              <a:ext cx="411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3520" y="7547040"/>
            <a:ext cx="4944960" cy="1001880"/>
            <a:chOff x="533520" y="7547040"/>
            <a:chExt cx="4944960" cy="1001880"/>
          </a:xfrm>
        </p:grpSpPr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533520" y="754704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649160" y="7967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7040" y="7978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762300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3520" y="6480000"/>
            <a:ext cx="4944960" cy="1020240"/>
            <a:chOff x="533520" y="6480000"/>
            <a:chExt cx="4944960" cy="1020240"/>
          </a:xfrm>
        </p:grpSpPr>
        <p:pic>
          <p:nvPicPr>
            <p:cNvPr id="140" name="" descr=""/>
            <p:cNvPicPr/>
            <p:nvPr/>
          </p:nvPicPr>
          <p:blipFill>
            <a:blip r:embed="rId15"/>
            <a:stretch/>
          </p:blipFill>
          <p:spPr>
            <a:xfrm>
              <a:off x="533520" y="6480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599120" y="6906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44640" y="685764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240" y="6987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8160" y="6899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653688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638680" y="6480000"/>
            <a:ext cx="4944960" cy="1020240"/>
            <a:chOff x="5638680" y="6480000"/>
            <a:chExt cx="4944960" cy="1020240"/>
          </a:xfrm>
        </p:grpSpPr>
        <p:pic>
          <p:nvPicPr>
            <p:cNvPr id="147" name="" descr=""/>
            <p:cNvPicPr/>
            <p:nvPr/>
          </p:nvPicPr>
          <p:blipFill>
            <a:blip r:embed="rId16"/>
            <a:stretch/>
          </p:blipFill>
          <p:spPr>
            <a:xfrm>
              <a:off x="5638680" y="6480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04280" y="6906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9800" y="685764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47400" y="6987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33320" y="6899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560" y="653688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744200" y="6480000"/>
            <a:ext cx="4944960" cy="1020240"/>
            <a:chOff x="10744200" y="6480000"/>
            <a:chExt cx="4944960" cy="1020240"/>
          </a:xfrm>
        </p:grpSpPr>
        <p:pic>
          <p:nvPicPr>
            <p:cNvPr id="154" name="" descr=""/>
            <p:cNvPicPr/>
            <p:nvPr/>
          </p:nvPicPr>
          <p:blipFill>
            <a:blip r:embed="rId17"/>
            <a:stretch/>
          </p:blipFill>
          <p:spPr>
            <a:xfrm>
              <a:off x="10744200" y="648000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1809800" y="6906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155320" y="685764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652920" y="6987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40280" y="689904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25080" y="653688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38680" y="7547040"/>
            <a:ext cx="4944960" cy="1001880"/>
            <a:chOff x="5638680" y="7547040"/>
            <a:chExt cx="4944960" cy="1001880"/>
          </a:xfrm>
        </p:grpSpPr>
        <p:pic>
          <p:nvPicPr>
            <p:cNvPr id="161" name="" descr=""/>
            <p:cNvPicPr/>
            <p:nvPr/>
          </p:nvPicPr>
          <p:blipFill>
            <a:blip r:embed="rId18"/>
            <a:stretch/>
          </p:blipFill>
          <p:spPr>
            <a:xfrm>
              <a:off x="5638680" y="754704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754320" y="7967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2200" y="7978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560" y="762300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52120" y="7547040"/>
            <a:ext cx="4944960" cy="1001880"/>
            <a:chOff x="10752120" y="7547040"/>
            <a:chExt cx="4944960" cy="1001880"/>
          </a:xfrm>
        </p:grpSpPr>
        <p:pic>
          <p:nvPicPr>
            <p:cNvPr id="166" name="" descr=""/>
            <p:cNvPicPr/>
            <p:nvPr/>
          </p:nvPicPr>
          <p:blipFill>
            <a:blip r:embed="rId19"/>
            <a:stretch/>
          </p:blipFill>
          <p:spPr>
            <a:xfrm>
              <a:off x="10752120" y="754704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1867760" y="7967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105640" y="7978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133000" y="7623000"/>
              <a:ext cx="4114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744200" y="1219320"/>
            <a:ext cx="4944960" cy="1023480"/>
            <a:chOff x="10744200" y="1219320"/>
            <a:chExt cx="4944960" cy="1023480"/>
          </a:xfrm>
        </p:grpSpPr>
        <p:pic>
          <p:nvPicPr>
            <p:cNvPr id="171" name="" descr=""/>
            <p:cNvPicPr/>
            <p:nvPr/>
          </p:nvPicPr>
          <p:blipFill>
            <a:blip r:embed="rId20"/>
            <a:stretch/>
          </p:blipFill>
          <p:spPr>
            <a:xfrm>
              <a:off x="10744200" y="1219320"/>
              <a:ext cx="49449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844720" y="1649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155320" y="1600200"/>
              <a:ext cx="53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52560" y="1730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22640" y="1658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125080" y="1295280"/>
              <a:ext cx="41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3520" y="3276720"/>
            <a:ext cx="4944960" cy="1078200"/>
            <a:chOff x="533520" y="3276720"/>
            <a:chExt cx="4944960" cy="1078200"/>
          </a:xfrm>
        </p:grpSpPr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533520" y="3352680"/>
              <a:ext cx="494496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649160" y="3773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7040" y="3784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3276720"/>
              <a:ext cx="4114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7160" y="8576640"/>
            <a:ext cx="4912920" cy="948240"/>
            <a:chOff x="497160" y="8576640"/>
            <a:chExt cx="4912920" cy="948240"/>
          </a:xfrm>
        </p:grpSpPr>
        <p:pic>
          <p:nvPicPr>
            <p:cNvPr id="183" name="" descr=""/>
            <p:cNvPicPr/>
            <p:nvPr/>
          </p:nvPicPr>
          <p:blipFill>
            <a:blip r:embed="rId22"/>
            <a:stretch/>
          </p:blipFill>
          <p:spPr>
            <a:xfrm>
              <a:off x="533520" y="8594640"/>
              <a:ext cx="487656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009520" y="871524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9520" y="906768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7160" y="8576640"/>
              <a:ext cx="42372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自由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43720" y="8576640"/>
            <a:ext cx="4912920" cy="948240"/>
            <a:chOff x="5643720" y="8576640"/>
            <a:chExt cx="4912920" cy="948240"/>
          </a:xfrm>
        </p:grpSpPr>
        <p:pic>
          <p:nvPicPr>
            <p:cNvPr id="188" name="" descr=""/>
            <p:cNvPicPr/>
            <p:nvPr/>
          </p:nvPicPr>
          <p:blipFill>
            <a:blip r:embed="rId23"/>
            <a:stretch/>
          </p:blipFill>
          <p:spPr>
            <a:xfrm>
              <a:off x="5680080" y="8594640"/>
              <a:ext cx="487656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156080" y="871524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6080" y="906768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自由に入力してくださ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43720" y="8576640"/>
              <a:ext cx="42372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Arial"/>
                </a:rPr>
                <a:t>自由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1:33Z</dcterms:created>
  <dc:creator>山崎 英雄</dc:creator>
  <dc:description/>
  <dc:language>en-US</dc:language>
  <cp:lastModifiedBy>山崎 英雄</cp:lastModifiedBy>
  <dcterms:modified xsi:type="dcterms:W3CDTF">2008-03-23T16:23:48Z</dcterms:modified>
  <cp:revision>27</cp:revision>
  <dc:subject/>
  <dc:title>PowerPoint プレゼンテーション</dc:title>
</cp:coreProperties>
</file>