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2C8A3-4428-4F48-9F81-2AA5A560C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C182D-C422-41A0-9890-FCE1DB61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277A6-B879-4A50-8AAA-DA3BCFDD7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BE07F-17AF-4C2C-86BF-E8CF07A2E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11D2-7A4D-4AD4-87B7-EFD7123FA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E3E75-7C7A-4068-9C86-19054F94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CB41-293A-4327-8585-151A6001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A4533-FC02-41DF-BDB9-5ABBA926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6EDD-B8A2-4BF9-8730-4AE45FF7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6376-75F5-4E3A-99BB-2A02A82E5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74CBB-CEA8-441A-A198-48B585CF0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9336-1B45-4DA7-A863-5AD1F5429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3240"/>
            <a:ext cx="13009680" cy="732168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8F3461B7-5033-4004-8555-1A4C5C1B0472}"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171360"/>
            <a:ext cx="2622600" cy="354240"/>
          </a:xfrm>
          <a:prstGeom prst="roundRect">
            <a:avLst>
              <a:gd name="adj" fmla="val 50000"/>
            </a:avLst>
          </a:prstGeom>
          <a:solidFill>
            <a:srgbClr val="ffffff"/>
          </a:solidFill>
          <a:ln w="25560">
            <a:solidFill>
              <a:srgbClr val="81aa3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36440" y="1257120"/>
            <a:ext cx="11302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zh-CN"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1036800" y="2286000"/>
            <a:ext cx="9756720" cy="38275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zh-CN"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zh-CN"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zh-CN"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zh-CN"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860400" y="152280"/>
            <a:ext cx="1301400" cy="361080"/>
          </a:xfrm>
          <a:prstGeom prst="rect">
            <a:avLst/>
          </a:prstGeom>
          <a:noFill/>
          <a:ln w="0">
            <a:noFill/>
          </a:ln>
        </p:spPr>
        <p:style>
          <a:lnRef idx="0"/>
          <a:fillRef idx="0"/>
          <a:effectRef idx="0"/>
          <a:fontRef idx="minor"/>
        </p:style>
        <p:txBody>
          <a:bodyPr wrap="none" lIns="71280" rIns="71280" tIns="35640" bIns="35640" anchor="t">
            <a:sp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zh-CN" sz="1900" spc="-1" strike="noStrike">
                <a:solidFill>
                  <a:srgbClr val="000000"/>
                </a:solidFill>
                <a:latin typeface="Arial"/>
              </a:rPr>
              <a:t>保健管理センター</a:t>
            </a:r>
            <a:endParaRPr b="0" lang="en-US" sz="1900" spc="-1" strike="noStrike">
              <a:solidFill>
                <a:srgbClr val="000000"/>
              </a:solidFill>
              <a:latin typeface="Arial"/>
            </a:endParaRPr>
          </a:p>
        </p:txBody>
      </p:sp>
      <p:sp>
        <p:nvSpPr>
          <p:cNvPr id="47" name=""/>
          <p:cNvSpPr/>
          <p:nvPr/>
        </p:nvSpPr>
        <p:spPr>
          <a:xfrm>
            <a:off x="1219320" y="2057400"/>
            <a:ext cx="1079496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支援GP1</cp:lastModifiedBy>
  <dcterms:modified xsi:type="dcterms:W3CDTF">2008-03-26T09:46:24Z</dcterms:modified>
  <cp:revision>16</cp:revision>
  <dc:subject/>
  <dc:title>PowerPoint プレゼンテーション</dc:title>
</cp:coreProperties>
</file>