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1115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E88-177A-413A-AC4E-39050D7D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6320" y="440640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260-EF2E-4AE8-A002-DFAF20C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308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81F-1EAF-4908-A3CE-D4922AAA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64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54600" y="211464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632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1564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54600" y="4406400"/>
            <a:ext cx="356076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9F5-A2BC-470B-8584-AA108BEE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DE7-C751-4A7C-8FAB-1A952E67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D69-2904-43BE-8630-E8D89FF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397-7658-4471-B88B-C422826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188-2738-48F1-BDE3-65C94488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6320" y="649080"/>
            <a:ext cx="110584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E62-B819-4937-89F8-82A6F26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CA7-91B7-43CD-8606-4019058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3080" y="440640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C22-DCE2-47C8-ABED-E5167F6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632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3080" y="2114640"/>
            <a:ext cx="539640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6320" y="4406400"/>
            <a:ext cx="11058480" cy="2092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474-5171-40B8-9AE0-0597090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6320" y="649080"/>
            <a:ext cx="11058480" cy="1220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6320" y="2114640"/>
            <a:ext cx="11058480" cy="43876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rmAutofit fontScale="82000"/>
          </a:bodyPr>
          <a:p>
            <a:pPr marL="355320" indent="-35532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2980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189440" indent="-237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1666080" indent="-2379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141280" indent="-23688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5960" y="6665760"/>
            <a:ext cx="270972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4920" y="6665760"/>
            <a:ext cx="412128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4720" y="6665760"/>
            <a:ext cx="2709720" cy="486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lstStyle>
            <a:lvl1pPr indent="0" algn="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fld id="{77312725-C10A-46CC-BD5B-F7299D25ECCB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13014000" cy="73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11044080" cy="1752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ctr">
            <a:noAutofit/>
          </a:bodyPr>
          <a:p>
            <a:pPr indent="0" algn="ctr"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5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ja-JP" sz="5500" spc="-1" strike="noStrike">
                <a:solidFill>
                  <a:srgbClr val="000000"/>
                </a:solidFill>
                <a:latin typeface="Arial"/>
              </a:rPr>
              <a:t>書類設定サイズ</a:t>
            </a:r>
            <a:br>
              <a:rPr sz="5500"/>
            </a:br>
            <a:r>
              <a:rPr b="0" lang="ja-JP" sz="5500" spc="-1" strike="noStrike">
                <a:solidFill>
                  <a:srgbClr val="000000"/>
                </a:solidFill>
                <a:latin typeface="Arial"/>
              </a:rPr>
              <a:t>36.14cm x 20.32cm 96dpi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50840" y="4145040"/>
            <a:ext cx="9109080" cy="1869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960" bIns="57960" anchor="t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ja-JP" sz="4100" spc="-1" strike="noStrike">
                <a:solidFill>
                  <a:srgbClr val="000000"/>
                </a:solidFill>
                <a:latin typeface="Arial"/>
              </a:rPr>
              <a:t>JPEG</a:t>
            </a:r>
            <a:r>
              <a:rPr b="0" lang="ja-JP" sz="4100" spc="-1" strike="noStrike">
                <a:solidFill>
                  <a:srgbClr val="000000"/>
                </a:solidFill>
                <a:latin typeface="Arial"/>
              </a:rPr>
              <a:t>書き出しサイズ</a:t>
            </a:r>
            <a:br>
              <a:rPr sz="4100"/>
            </a:br>
            <a:r>
              <a:rPr b="0" lang="ja-JP" sz="4100" spc="-1" strike="noStrike">
                <a:solidFill>
                  <a:srgbClr val="000000"/>
                </a:solidFill>
                <a:latin typeface="Arial"/>
              </a:rPr>
              <a:t>1366pixel x 768pix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1:33Z</dcterms:created>
  <dc:creator>山崎 英雄</dc:creator>
  <dc:description/>
  <dc:language>en-US</dc:language>
  <cp:lastModifiedBy>山崎 英雄</cp:lastModifiedBy>
  <dcterms:modified xsi:type="dcterms:W3CDTF">2008-03-23T16:16:02Z</dcterms:modified>
  <cp:revision>4</cp:revision>
  <dc:subject/>
  <dc:title>PowerPoint プレゼンテーション</dc:title>
</cp:coreProperties>
</file>