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E6A31-2B04-46DC-B725-915B31C67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D0B30-A7E8-4741-9F44-E9B5962A6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EA137-CC26-48E8-B10B-843F67AA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662A1-4270-4384-AF63-E8A8208B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0C08E-02AF-44E7-862A-AB531C6A0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830C-B852-469A-93BA-A3DE4DE1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546E-751E-4F3D-B7F1-28DDE1572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E68E-8F52-4058-8146-7998AC0D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50520"/>
            <a:ext cx="11058480" cy="565344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AC2AA-8EDC-4878-AA67-71ACCD29A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D64E-CD2D-442A-8B84-13A51479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D17C5-91CB-454E-B32F-FEAE5284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4964-B283-4CB9-85F8-002C3C6CC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2920" indent="-2977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464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4320"/>
            <a:ext cx="2709720" cy="48744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4320"/>
            <a:ext cx="4121280" cy="48744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4320"/>
            <a:ext cx="2709720" cy="48744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A4624117-B51D-4044-9273-C869DD291583}"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285840"/>
            <a:ext cx="1830600" cy="349200"/>
          </a:xfrm>
          <a:prstGeom prst="roundRect">
            <a:avLst>
              <a:gd name="adj" fmla="val 50000"/>
            </a:avLst>
          </a:prstGeom>
          <a:solidFill>
            <a:srgbClr val="ffffff"/>
          </a:solidFill>
          <a:ln w="25560">
            <a:solidFill>
              <a:srgbClr val="fcf2b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14480" y="800280"/>
            <a:ext cx="11059920" cy="8553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975960" y="1712880"/>
            <a:ext cx="11280600" cy="3828960"/>
          </a:xfrm>
          <a:prstGeom prst="rect">
            <a:avLst/>
          </a:prstGeom>
          <a:noFill/>
          <a:ln w="0">
            <a:noFill/>
          </a:ln>
        </p:spPr>
        <p:txBody>
          <a:bodyPr lIns="115920" rIns="115920" tIns="57960" bIns="57960" anchor="t">
            <a:noAutofit/>
          </a:bodyPr>
          <a:p>
            <a:pPr indent="0">
              <a:spcBef>
                <a:spcPts val="924"/>
              </a:spcBef>
              <a:buNone/>
              <a:tabLst>
                <a:tab algn="l" pos="0"/>
                <a:tab algn="l" pos="1160640"/>
                <a:tab algn="l" pos="2320920"/>
                <a:tab algn="l" pos="3481560"/>
                <a:tab algn="l" pos="4641840"/>
                <a:tab algn="l" pos="5802480"/>
                <a:tab algn="l" pos="6962760"/>
                <a:tab algn="l" pos="8123400"/>
                <a:tab algn="l" pos="9283680"/>
                <a:tab algn="l" pos="10444320"/>
              </a:tabLst>
            </a:pPr>
            <a:r>
              <a:rPr b="0" lang="ja-JP" sz="3700" spc="-1" strike="noStrike">
                <a:solidFill>
                  <a:srgbClr val="000000"/>
                </a:solidFill>
                <a:latin typeface="Arial"/>
              </a:rPr>
              <a:t>内容を自由に打ち込んでください。</a:t>
            </a:r>
            <a:endParaRPr b="0" lang="en-US" sz="3700" spc="-1" strike="noStrike">
              <a:solidFill>
                <a:srgbClr val="000000"/>
              </a:solidFill>
              <a:latin typeface="Arial"/>
            </a:endParaRPr>
          </a:p>
          <a:p>
            <a:pPr indent="0">
              <a:spcBef>
                <a:spcPts val="924"/>
              </a:spcBef>
              <a:buNone/>
              <a:tabLst>
                <a:tab algn="l" pos="0"/>
                <a:tab algn="l" pos="1160640"/>
                <a:tab algn="l" pos="2320920"/>
                <a:tab algn="l" pos="3481560"/>
                <a:tab algn="l" pos="4641840"/>
                <a:tab algn="l" pos="5802480"/>
                <a:tab algn="l" pos="6962760"/>
                <a:tab algn="l" pos="8123400"/>
                <a:tab algn="l" pos="9283680"/>
                <a:tab algn="l" pos="10444320"/>
              </a:tabLst>
            </a:pPr>
            <a:r>
              <a:rPr b="0" lang="ja-JP" sz="3700" spc="-1" strike="noStrike">
                <a:solidFill>
                  <a:srgbClr val="000000"/>
                </a:solidFill>
                <a:latin typeface="Arial"/>
              </a:rPr>
              <a:t>文字枠の左端をタイトルの左端に合わせて打ち込むようにしてください。</a:t>
            </a:r>
            <a:endParaRPr b="0" lang="en-US" sz="37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182520" y="272880"/>
            <a:ext cx="1855800" cy="36108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課</a:t>
            </a:r>
            <a:endParaRPr b="0" lang="en-US" sz="1900" spc="-1" strike="noStrike">
              <a:solidFill>
                <a:srgbClr val="000000"/>
              </a:solidFill>
              <a:latin typeface="Arial"/>
            </a:endParaRPr>
          </a:p>
        </p:txBody>
      </p:sp>
      <p:sp>
        <p:nvSpPr>
          <p:cNvPr id="47" name=""/>
          <p:cNvSpPr/>
          <p:nvPr/>
        </p:nvSpPr>
        <p:spPr>
          <a:xfrm>
            <a:off x="10001160" y="457200"/>
            <a:ext cx="2648160" cy="361080"/>
          </a:xfrm>
          <a:prstGeom prst="rect">
            <a:avLst/>
          </a:prstGeom>
          <a:noFill/>
          <a:ln w="0">
            <a:noFill/>
          </a:ln>
        </p:spPr>
        <p:style>
          <a:lnRef idx="0"/>
          <a:fillRef idx="0"/>
          <a:effectRef idx="0"/>
          <a:fontRef idx="minor"/>
        </p:style>
        <p:txBody>
          <a:bodyPr lIns="71280" rIns="71280" tIns="35640" bIns="35640" anchor="t">
            <a:spAutoFit/>
          </a:bodyPr>
          <a:p>
            <a:pPr algn="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900" spc="-1" strike="noStrike">
                <a:solidFill>
                  <a:srgbClr val="000000"/>
                </a:solidFill>
                <a:latin typeface="Arial"/>
              </a:rPr>
              <a:t>2008.3.21</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4T03:27:57Z</dcterms:modified>
  <cp:revision>17</cp:revision>
  <dc:subject/>
  <dc:title>PowerPoint プレゼンテーション</dc:title>
</cp:coreProperties>
</file>