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49281-E06E-4D4C-89D5-C2C89A66D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E6204-34FA-4DD4-B1B5-654A4CC06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258CA-5E96-4697-845D-8D589DEE0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01BA5-D48C-42B9-83C8-528CDBD8B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98392-8B4A-46B4-B299-AE3C8114B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290DA-D8FB-47C4-8048-1B7868B50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13D9B-484D-45AC-B2F6-906BDD019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3779-934D-488D-ABAF-48F6C959F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33844-DF5B-4A93-8039-0A1072A0F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C2CF-04F2-458A-BA77-E6F400744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8701-ED49-4A44-94F8-CF0C76E5E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4876-748A-4247-8BB0-C32510C7D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13014000" cy="731664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C0A8D2CF-1725-469A-B926-57D6D0C00469}"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a:effectLst>
            <a:outerShdw dist="17819" dir="2700000" blurRad="0" rotWithShape="0">
              <a:srgbClr val="808080">
                <a:alpha val="13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26960" y="228600"/>
            <a:ext cx="2622600" cy="353880"/>
          </a:xfrm>
          <a:prstGeom prst="roundRect">
            <a:avLst>
              <a:gd name="adj" fmla="val 50000"/>
            </a:avLst>
          </a:prstGeom>
          <a:solidFill>
            <a:srgbClr val="ffffff"/>
          </a:solidFill>
          <a:ln w="25560">
            <a:solidFill>
              <a:srgbClr val="d9dde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761760" y="894960"/>
            <a:ext cx="1130292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40e2a"/>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762120" y="2057400"/>
            <a:ext cx="11586960" cy="4284720"/>
          </a:xfrm>
          <a:prstGeom prst="rect">
            <a:avLst/>
          </a:prstGeom>
          <a:noFill/>
          <a:ln w="0">
            <a:noFill/>
          </a:ln>
        </p:spPr>
        <p:txBody>
          <a:bodyPr lIns="115920" rIns="115920" tIns="57960" bIns="57960" anchor="t">
            <a:noAutofit/>
          </a:bodyPr>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07173e"/>
                </a:solidFill>
                <a:latin typeface="Arial"/>
              </a:rPr>
              <a:t>内容を自由に打ち込んでください。</a:t>
            </a:r>
            <a:endParaRPr b="0" lang="en-US" sz="3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の大きさも情報量に合わせて、設定することができます。</a:t>
            </a: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あたり文字あたり文字あたり文字あたり文字あたり文字あたり文字あたり文字あたり文字あたり文字あたり文字あたり文字あたり文字あたり文字あたり文字あたり文字あたり文字あたり文字あたり</a:t>
            </a: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あたり文字あたり文字あたり文字あたり文字あたり文字あたり文字あたり文字あたり文字あたり文字あたり文字あたり文字あたり文字あたり文字あたり文字あたり文字あたり文字あたり文字あたり</a:t>
            </a:r>
            <a:endParaRPr b="0" lang="en-US" sz="2800" spc="-1" strike="noStrike">
              <a:solidFill>
                <a:srgbClr val="000000"/>
              </a:solidFill>
              <a:latin typeface="Arial"/>
            </a:endParaRPr>
          </a:p>
        </p:txBody>
      </p:sp>
      <p:sp>
        <p:nvSpPr>
          <p:cNvPr id="46" name=""/>
          <p:cNvSpPr/>
          <p:nvPr/>
        </p:nvSpPr>
        <p:spPr>
          <a:xfrm>
            <a:off x="1203840" y="228600"/>
            <a:ext cx="101196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5:49:23Z</dcterms:modified>
  <cp:revision>23</cp:revision>
  <dc:subject/>
  <dc:title>PowerPoint プレゼンテーション</dc:title>
</cp:coreProperties>
</file>