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1115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722-8585-4D3B-8F9B-6D30F631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6320" y="2114640"/>
            <a:ext cx="1105848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76320" y="4406400"/>
            <a:ext cx="1105848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732-8701-4F67-81C6-4149ADFD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6320" y="211464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643080" y="211464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76320" y="440640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643080" y="440640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5EE-39DF-4237-92DD-76D9222B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6320" y="2114640"/>
            <a:ext cx="356076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5640" y="2114640"/>
            <a:ext cx="356076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454600" y="2114640"/>
            <a:ext cx="356076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76320" y="4406400"/>
            <a:ext cx="356076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715640" y="4406400"/>
            <a:ext cx="356076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454600" y="4406400"/>
            <a:ext cx="356076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DE0-EE86-4FEE-A3F2-B046C94C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76320" y="2114640"/>
            <a:ext cx="110584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4F54-1F88-4C05-945B-2F785F62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6320" y="2114640"/>
            <a:ext cx="11058480" cy="4387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10A-50B1-4BC7-B672-4801635B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6320" y="2114640"/>
            <a:ext cx="5396400" cy="4387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3080" y="2114640"/>
            <a:ext cx="5396400" cy="4387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16D-1C27-4639-B75B-1B6B226B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13A-149E-447B-A738-B449A941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76320" y="649080"/>
            <a:ext cx="110584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B8C-592C-4942-A6F0-FAE5269F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6320" y="211464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3080" y="2114640"/>
            <a:ext cx="5396400" cy="4387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76320" y="440640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516-917A-4691-9A1D-3C328B3B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6320" y="2114640"/>
            <a:ext cx="5396400" cy="4387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3080" y="211464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43080" y="440640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686-4432-422A-8A06-E70A2185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6320" y="211464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3080" y="211464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76320" y="4406400"/>
            <a:ext cx="1105848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BF2-7EC8-41C2-8C87-6CBA1A10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6320" y="2114640"/>
            <a:ext cx="11058480" cy="4387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 fontScale="82000"/>
          </a:bodyPr>
          <a:p>
            <a:pPr marL="355320" indent="-3553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29808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2" marL="1189440" indent="-237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3" marL="1666080" indent="-23796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4" marL="2141280" indent="-23688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5" marL="2141280" indent="-23688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6" marL="2141280" indent="-23688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5960" y="6665760"/>
            <a:ext cx="2709720" cy="486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Autofit/>
          </a:bodyPr>
          <a:lstStyle>
            <a:lvl1pPr indent="0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  <a:defRPr b="0" lang="ja-JP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4920" y="6665760"/>
            <a:ext cx="4121280" cy="486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Autofit/>
          </a:bodyPr>
          <a:lstStyle>
            <a:lvl1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  <a:defRPr b="0" lang="ja-JP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24720" y="6665760"/>
            <a:ext cx="2709720" cy="486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Autofit/>
          </a:bodyPr>
          <a:lstStyle>
            <a:lvl1pPr indent="0" algn="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  <a:defRPr b="0" lang="ja-JP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fld id="{D6CD7D36-7660-4DDA-A68D-30859D79E634}" type="slidenum">
              <a:rPr b="0" lang="ja-JP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9680" cy="39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13000"/>
              </a:srgbClr>
            </a:outerShdw>
          </a:effectLst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440" y="0"/>
            <a:ext cx="13015800" cy="73137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507400" y="114480"/>
            <a:ext cx="11275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1900" spc="-1" strike="noStrike">
                <a:solidFill>
                  <a:srgbClr val="ffffff"/>
                </a:solidFill>
                <a:latin typeface="Arial"/>
              </a:rPr>
              <a:t>学生支援</a:t>
            </a:r>
            <a:r>
              <a:rPr b="0" lang="ja-JP" sz="1900" spc="-1" strike="noStrike">
                <a:solidFill>
                  <a:srgbClr val="ffffff"/>
                </a:solidFill>
                <a:latin typeface="Arial"/>
              </a:rPr>
              <a:t>G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3.jpeg"/><Relationship Id="rId10" Type="http://schemas.openxmlformats.org/officeDocument/2006/relationships/image" Target="../media/image5.jpeg"/><Relationship Id="rId11" Type="http://schemas.openxmlformats.org/officeDocument/2006/relationships/image" Target="../media/image3.jpeg"/><Relationship Id="rId12" Type="http://schemas.openxmlformats.org/officeDocument/2006/relationships/image" Target="../media/image6.jpeg"/><Relationship Id="rId13" Type="http://schemas.openxmlformats.org/officeDocument/2006/relationships/image" Target="../media/image4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599320" y="914400"/>
            <a:ext cx="4084920" cy="588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6960" y="228600"/>
            <a:ext cx="2622600" cy="353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120" y="228600"/>
            <a:ext cx="25225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３月２１日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5960" y="114120"/>
            <a:ext cx="11037960" cy="6858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ja-JP" sz="3400" spc="-1" strike="noStrike">
                <a:solidFill>
                  <a:srgbClr val="ffffff"/>
                </a:solidFill>
                <a:latin typeface="Arial"/>
              </a:rPr>
              <a:t>講義予定変更情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26960" y="870120"/>
            <a:ext cx="3957840" cy="828360"/>
            <a:chOff x="426960" y="870120"/>
            <a:chExt cx="3957840" cy="8283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426960" y="914400"/>
              <a:ext cx="395784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291680" y="1236600"/>
              <a:ext cx="4968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6080" y="1200240"/>
              <a:ext cx="41904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2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59120" y="1297080"/>
              <a:ext cx="2880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60440" y="1243080"/>
              <a:ext cx="4086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2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1880" y="870120"/>
              <a:ext cx="329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2196440" y="6856560"/>
            <a:ext cx="4784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15800" y="1676520"/>
            <a:ext cx="3957480" cy="781920"/>
            <a:chOff x="415800" y="1676520"/>
            <a:chExt cx="3957480" cy="78192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415800" y="1722600"/>
              <a:ext cx="39574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334520" y="2041560"/>
              <a:ext cx="4075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6560" y="2004840"/>
              <a:ext cx="32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2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70640" y="2085840"/>
              <a:ext cx="1987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05080" y="2036880"/>
              <a:ext cx="3193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2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52360" y="1676520"/>
              <a:ext cx="17305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26960" y="3268800"/>
            <a:ext cx="3957840" cy="761760"/>
            <a:chOff x="426960" y="3268800"/>
            <a:chExt cx="3957840" cy="761760"/>
          </a:xfrm>
        </p:grpSpPr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426960" y="3313080"/>
              <a:ext cx="39578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674720" y="3622680"/>
              <a:ext cx="2307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8840" y="3666960"/>
              <a:ext cx="206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63520" y="3268800"/>
              <a:ext cx="17305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90720" y="3666960"/>
              <a:ext cx="206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55800" y="3622680"/>
              <a:ext cx="2307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26960" y="4059360"/>
            <a:ext cx="3957840" cy="707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45680" y="4381560"/>
            <a:ext cx="407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3960" y="4344840"/>
            <a:ext cx="329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78560" y="4443480"/>
            <a:ext cx="1987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9360" y="4389480"/>
            <a:ext cx="3193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22200" y="4105440"/>
            <a:ext cx="1882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あたり文字あたり文字あたり文字あた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26960" y="5657760"/>
            <a:ext cx="3957840" cy="708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370520" y="5991120"/>
            <a:ext cx="2646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960" bIns="2196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6880" y="6005520"/>
            <a:ext cx="240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960" bIns="2196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21120" y="5715000"/>
            <a:ext cx="19166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960" bIns="21960" anchor="t">
            <a:spAutoFit/>
          </a:bodyPr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あたり文字あたり文字あたり文字あた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26960" y="4859280"/>
            <a:ext cx="3957840" cy="70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345680" y="5180040"/>
            <a:ext cx="407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0440" y="5141880"/>
            <a:ext cx="329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6480" y="5240160"/>
            <a:ext cx="1987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4680" y="5173560"/>
            <a:ext cx="3193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22200" y="4902120"/>
            <a:ext cx="1882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あたり文字あたり文字あたり文字あた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26960" y="2455920"/>
            <a:ext cx="3957840" cy="798120"/>
            <a:chOff x="426960" y="2455920"/>
            <a:chExt cx="3957840" cy="798120"/>
          </a:xfrm>
        </p:grpSpPr>
        <p:pic>
          <p:nvPicPr>
            <p:cNvPr id="87" name="" descr=""/>
            <p:cNvPicPr/>
            <p:nvPr/>
          </p:nvPicPr>
          <p:blipFill>
            <a:blip r:embed="rId7"/>
            <a:stretch/>
          </p:blipFill>
          <p:spPr>
            <a:xfrm>
              <a:off x="426960" y="2513160"/>
              <a:ext cx="395784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383120" y="2828880"/>
              <a:ext cx="26460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5480" y="2860560"/>
              <a:ext cx="24012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62440" y="2455920"/>
              <a:ext cx="1764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t">
              <a:spAutoFit/>
            </a:bodyPr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17960" y="6423480"/>
            <a:ext cx="3925440" cy="721800"/>
            <a:chOff x="417960" y="6423480"/>
            <a:chExt cx="3925440" cy="721800"/>
          </a:xfrm>
        </p:grpSpPr>
        <p:pic>
          <p:nvPicPr>
            <p:cNvPr id="92" name="" descr=""/>
            <p:cNvPicPr/>
            <p:nvPr/>
          </p:nvPicPr>
          <p:blipFill>
            <a:blip r:embed="rId8"/>
            <a:stretch/>
          </p:blipFill>
          <p:spPr>
            <a:xfrm>
              <a:off x="426960" y="6443640"/>
              <a:ext cx="3916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617480" y="6534000"/>
              <a:ext cx="168480" cy="2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t">
              <a:spAutoFit/>
            </a:bodyPr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300" spc="-1" strike="noStrike">
                  <a:solidFill>
                    <a:srgbClr val="000000"/>
                  </a:solidFill>
                  <a:latin typeface="Arial"/>
                </a:rPr>
                <a:t>自由に入力してください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17480" y="6799320"/>
              <a:ext cx="168480" cy="2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t">
              <a:spAutoFit/>
            </a:bodyPr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300" spc="-1" strike="noStrike">
                  <a:solidFill>
                    <a:srgbClr val="000000"/>
                  </a:solidFill>
                  <a:latin typeface="Arial"/>
                </a:rPr>
                <a:t>自由に入力してください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7960" y="6423480"/>
              <a:ext cx="285480" cy="7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t" vert="eaVert">
              <a:spAutoFit/>
            </a:bodyPr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300" spc="-1" strike="noStrike">
                  <a:solidFill>
                    <a:srgbClr val="ffffff"/>
                  </a:solidFill>
                  <a:latin typeface="Arial"/>
                </a:rPr>
                <a:t>自由枠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9318240" y="923760"/>
            <a:ext cx="8658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今後の予定など・・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80320" y="1219320"/>
            <a:ext cx="38815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明日以降の情報、その他、講義に関わる情報を自由に入力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明日以降の情報、その他、講義に関わる情報を自由に入力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明日以降の情報、その他、講義に関わる情報を自由に入力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明日以降の情報、その他、講義に関わる情報を自由に入力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明日以降の情報、その他、講義に関わる情報を自由に入力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明日以降の情報、その他、講義に関わる情報を自由に入力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明日以降の情報、その他、講義に関わる情報を自由に入力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明日以降の情報、その他、講義に関わる情報を自由に入力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明日以降の情報、その他、講義に関わる情報を自由に入力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503600" y="870120"/>
            <a:ext cx="3957840" cy="828360"/>
            <a:chOff x="4503600" y="870120"/>
            <a:chExt cx="3957840" cy="828360"/>
          </a:xfrm>
        </p:grpSpPr>
        <p:pic>
          <p:nvPicPr>
            <p:cNvPr id="99" name="" descr=""/>
            <p:cNvPicPr/>
            <p:nvPr/>
          </p:nvPicPr>
          <p:blipFill>
            <a:blip r:embed="rId9"/>
            <a:stretch/>
          </p:blipFill>
          <p:spPr>
            <a:xfrm>
              <a:off x="4503600" y="914400"/>
              <a:ext cx="395784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368320" y="1236600"/>
              <a:ext cx="4968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42720" y="1200240"/>
              <a:ext cx="41904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2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35760" y="1297080"/>
              <a:ext cx="2880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37080" y="1243080"/>
              <a:ext cx="4086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2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08520" y="870120"/>
              <a:ext cx="329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503600" y="3268800"/>
            <a:ext cx="3957840" cy="761760"/>
            <a:chOff x="4503600" y="3268800"/>
            <a:chExt cx="3957840" cy="761760"/>
          </a:xfrm>
        </p:grpSpPr>
        <p:pic>
          <p:nvPicPr>
            <p:cNvPr id="106" name="" descr=""/>
            <p:cNvPicPr/>
            <p:nvPr/>
          </p:nvPicPr>
          <p:blipFill>
            <a:blip r:embed="rId10"/>
            <a:stretch/>
          </p:blipFill>
          <p:spPr>
            <a:xfrm>
              <a:off x="4503600" y="3313080"/>
              <a:ext cx="39578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751360" y="3622680"/>
              <a:ext cx="2307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65480" y="3666960"/>
              <a:ext cx="206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40160" y="3268800"/>
              <a:ext cx="17305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67360" y="3666960"/>
              <a:ext cx="206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32440" y="3622680"/>
              <a:ext cx="2307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4503600" y="4059360"/>
            <a:ext cx="3957840" cy="707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422680" y="4381560"/>
            <a:ext cx="407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90600" y="4344840"/>
            <a:ext cx="329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55200" y="4443480"/>
            <a:ext cx="1987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26360" y="4389480"/>
            <a:ext cx="3193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98840" y="4105440"/>
            <a:ext cx="1882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あたり文字あたり文字あたり文字あた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2"/>
          <a:stretch/>
        </p:blipFill>
        <p:spPr>
          <a:xfrm>
            <a:off x="4503600" y="5657760"/>
            <a:ext cx="3957840" cy="708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447160" y="5991120"/>
            <a:ext cx="2646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960" bIns="2196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3520" y="6005520"/>
            <a:ext cx="240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960" bIns="2196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7760" y="5715000"/>
            <a:ext cx="19166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960" bIns="21960" anchor="t">
            <a:spAutoFit/>
          </a:bodyPr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あたり文字あたり文字あたり文字あた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4503600" y="4859280"/>
            <a:ext cx="3957840" cy="706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422680" y="5180040"/>
            <a:ext cx="407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97080" y="5141880"/>
            <a:ext cx="329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63120" y="5240160"/>
            <a:ext cx="1987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1320" y="5173560"/>
            <a:ext cx="3193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8840" y="4902120"/>
            <a:ext cx="1882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t">
            <a:spAutoFit/>
          </a:bodyPr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あたり文字あたり文字あたり文字あた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503600" y="2455920"/>
            <a:ext cx="3957840" cy="798120"/>
            <a:chOff x="4503600" y="2455920"/>
            <a:chExt cx="3957840" cy="798120"/>
          </a:xfrm>
        </p:grpSpPr>
        <p:pic>
          <p:nvPicPr>
            <p:cNvPr id="129" name="" descr=""/>
            <p:cNvPicPr/>
            <p:nvPr/>
          </p:nvPicPr>
          <p:blipFill>
            <a:blip r:embed="rId14"/>
            <a:stretch/>
          </p:blipFill>
          <p:spPr>
            <a:xfrm>
              <a:off x="4503600" y="2513160"/>
              <a:ext cx="395784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459760" y="2828880"/>
              <a:ext cx="26460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12120" y="2860560"/>
              <a:ext cx="24012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39080" y="2455920"/>
              <a:ext cx="1764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t">
              <a:spAutoFit/>
            </a:bodyPr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494600" y="6423480"/>
            <a:ext cx="3925440" cy="721800"/>
            <a:chOff x="4494600" y="6423480"/>
            <a:chExt cx="3925440" cy="721800"/>
          </a:xfrm>
        </p:grpSpPr>
        <p:pic>
          <p:nvPicPr>
            <p:cNvPr id="134" name="" descr=""/>
            <p:cNvPicPr/>
            <p:nvPr/>
          </p:nvPicPr>
          <p:blipFill>
            <a:blip r:embed="rId15"/>
            <a:stretch/>
          </p:blipFill>
          <p:spPr>
            <a:xfrm>
              <a:off x="4503600" y="6443640"/>
              <a:ext cx="3916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94120" y="6534000"/>
              <a:ext cx="168480" cy="2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t">
              <a:spAutoFit/>
            </a:bodyPr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300" spc="-1" strike="noStrike">
                  <a:solidFill>
                    <a:srgbClr val="000000"/>
                  </a:solidFill>
                  <a:latin typeface="Arial"/>
                </a:rPr>
                <a:t>自由に入力してください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4120" y="6799320"/>
              <a:ext cx="168480" cy="2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t">
              <a:spAutoFit/>
            </a:bodyPr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300" spc="-1" strike="noStrike">
                  <a:solidFill>
                    <a:srgbClr val="000000"/>
                  </a:solidFill>
                  <a:latin typeface="Arial"/>
                </a:rPr>
                <a:t>自由に入力してください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94600" y="6423480"/>
              <a:ext cx="285480" cy="7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t" vert="eaVert">
              <a:spAutoFit/>
            </a:bodyPr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300" spc="-1" strike="noStrike">
                  <a:solidFill>
                    <a:srgbClr val="ffffff"/>
                  </a:solidFill>
                  <a:latin typeface="Arial"/>
                </a:rPr>
                <a:t>自由枠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495680" y="1676520"/>
            <a:ext cx="3957480" cy="781920"/>
            <a:chOff x="4495680" y="1676520"/>
            <a:chExt cx="3957480" cy="781920"/>
          </a:xfrm>
        </p:grpSpPr>
        <p:pic>
          <p:nvPicPr>
            <p:cNvPr id="139" name="" descr=""/>
            <p:cNvPicPr/>
            <p:nvPr/>
          </p:nvPicPr>
          <p:blipFill>
            <a:blip r:embed="rId16"/>
            <a:stretch/>
          </p:blipFill>
          <p:spPr>
            <a:xfrm>
              <a:off x="4495680" y="1722600"/>
              <a:ext cx="39574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414400" y="2041560"/>
              <a:ext cx="4075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6440" y="2004840"/>
              <a:ext cx="32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2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50520" y="2085840"/>
              <a:ext cx="1987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84960" y="2036880"/>
              <a:ext cx="3193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 algn="r"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2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32240" y="1676520"/>
              <a:ext cx="17305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t">
              <a:spAutoFit/>
            </a:bodyPr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8:11:33Z</dcterms:created>
  <dc:creator>山崎 英雄</dc:creator>
  <dc:description/>
  <dc:language>en-US</dc:language>
  <cp:lastModifiedBy>山崎 英雄</cp:lastModifiedBy>
  <dcterms:modified xsi:type="dcterms:W3CDTF">2008-03-23T16:35:45Z</dcterms:modified>
  <cp:revision>31</cp:revision>
  <dc:subject/>
  <dc:title>PowerPoint プレゼンテーション</dc:title>
</cp:coreProperties>
</file>