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FAE17-198E-487B-B403-E98A1A8C6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1BF2F-6C84-446F-BC59-9FDE9377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D5AFC-F455-4218-A54F-1FC0A7FD6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A9E33-4D30-488D-9749-8EF086A5F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C4A3C-8600-422F-952C-E0AA1C4A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770F8-032D-4BF9-99FB-5692DD6E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1CD0F-CF83-45FF-8204-81ECC7CC5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DECE-6C41-4852-956E-EC29613D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AE54-ACA2-4548-812B-7B8B80FB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0C48F-B9BF-4B02-9963-7F9E831F7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0B57-33B9-49FD-92F3-28D028B1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26E3-00FD-4A7F-BAE6-01DFAC8E1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3240"/>
            <a:ext cx="13014360" cy="732168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29D5422B-274E-45AD-BBC4-575FAEB139B3}"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1112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16000"/>
            <a:ext cx="2257560" cy="298440"/>
          </a:xfrm>
          <a:prstGeom prst="roundRect">
            <a:avLst>
              <a:gd name="adj" fmla="val 50000"/>
            </a:avLst>
          </a:prstGeom>
          <a:solidFill>
            <a:srgbClr val="eaf7d7"/>
          </a:solidFill>
          <a:ln w="25560">
            <a:solidFill>
              <a:srgbClr val="5a70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36440" y="1257120"/>
            <a:ext cx="1130292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1036800" y="2286000"/>
            <a:ext cx="9756720" cy="38275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959400" y="171360"/>
            <a:ext cx="72252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zh-CN" sz="1900" spc="-1" strike="noStrike">
                <a:solidFill>
                  <a:srgbClr val="000000"/>
                </a:solidFill>
                <a:latin typeface="Arial"/>
              </a:rPr>
              <a:t>？？？課</a:t>
            </a:r>
            <a:endParaRPr b="0" lang="en-US" sz="1900" spc="-1" strike="noStrike">
              <a:solidFill>
                <a:srgbClr val="000000"/>
              </a:solidFill>
              <a:latin typeface="Arial"/>
            </a:endParaRPr>
          </a:p>
        </p:txBody>
      </p:sp>
      <p:sp>
        <p:nvSpPr>
          <p:cNvPr id="47" name=""/>
          <p:cNvSpPr/>
          <p:nvPr/>
        </p:nvSpPr>
        <p:spPr>
          <a:xfrm>
            <a:off x="1179360" y="2057400"/>
            <a:ext cx="1107756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3T14:49:58Z</dcterms:modified>
  <cp:revision>14</cp:revision>
  <dc:subject/>
  <dc:title>PowerPoint プレゼンテーション</dc:title>
</cp:coreProperties>
</file>