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5FE6C-5979-4EC7-AFCA-7686A960D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01558-450C-4989-A01F-5B6EC9C0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E8DA5-511E-45FF-9618-090885E43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A82B-C638-4C60-AC7E-02AA6ED20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5EC56-A224-4FDE-B653-407F9A08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4775-E2FA-4BFD-8988-BE63F1B94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B9ED-C0AC-4093-B0B7-549A4B1E0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92CEF-FA85-4F6C-8738-A9B896934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9950-2DD6-4E7A-A671-414B4973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FA350-8C49-4B83-A070-4B54B1339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3ECE-D752-4C6A-B94E-05B212BDB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BBFA-2EBF-488C-A4A9-6032F16FB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81531BB9-777F-40BE-A3E3-91C1A89896EC}"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72880"/>
            <a:ext cx="2622600" cy="355680"/>
          </a:xfrm>
          <a:prstGeom prst="roundRect">
            <a:avLst>
              <a:gd name="adj" fmla="val 50000"/>
            </a:avLst>
          </a:prstGeom>
          <a:solidFill>
            <a:srgbClr val="ffffff"/>
          </a:solidFill>
          <a:ln w="25560">
            <a:solidFill>
              <a:srgbClr val="99b5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853920" y="1142640"/>
            <a:ext cx="1130328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853560" y="2286000"/>
            <a:ext cx="975708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1036800" y="1943280"/>
            <a:ext cx="1079496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1203840" y="27288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2:36Z</dcterms:modified>
  <cp:revision>16</cp:revision>
  <dc:subject/>
  <dc:title>PowerPoint プレゼンテーション</dc:title>
</cp:coreProperties>
</file>