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49F6C-AC25-498B-B64E-100DA115C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17AC0-43C4-44E2-A610-E092CBCD6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C8623-94F3-45C3-9F06-30AFBCB03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447CF-9AAC-4E3C-823A-7EAFB9BFA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5F355-D38A-43DA-9A48-627B46F1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EE12-3CB6-41E1-8AC7-4B6CD958D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6B7FA-F10C-4E9F-B36F-48CC5DC27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53E33-17E2-4200-A581-79D96411A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7BC05-63BA-4FD1-97FF-E9B05D12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6A47-EF00-4B52-81BC-6EC636C0D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8667-02B0-43FE-9CD9-67774DA28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BCEFA-8B20-4856-878C-F0236EEAD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009680" cy="731376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78D2964A-E409-4BB1-B1C3-118F2FEB6046}"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6960" y="228600"/>
            <a:ext cx="2622600" cy="353880"/>
          </a:xfrm>
          <a:prstGeom prst="roundRect">
            <a:avLst>
              <a:gd name="adj" fmla="val 50000"/>
            </a:avLst>
          </a:prstGeom>
          <a:solidFill>
            <a:srgbClr val="ffffff"/>
          </a:solidFill>
          <a:ln w="25560">
            <a:solidFill>
              <a:srgbClr val="c5c3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731520" y="857160"/>
            <a:ext cx="11302920" cy="85752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40e2a"/>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791640" y="2057400"/>
            <a:ext cx="11587320" cy="4284720"/>
          </a:xfrm>
          <a:prstGeom prst="rect">
            <a:avLst/>
          </a:prstGeom>
          <a:noFill/>
          <a:ln w="0">
            <a:noFill/>
          </a:ln>
        </p:spPr>
        <p:txBody>
          <a:bodyPr lIns="115920" rIns="115920" tIns="57960" bIns="57960" anchor="t">
            <a:noAutofit/>
          </a:bodyPr>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07173e"/>
                </a:solidFill>
                <a:latin typeface="Arial"/>
              </a:rPr>
              <a:t>内容を自由に打ち込んでください。</a:t>
            </a:r>
            <a:endParaRPr b="0" lang="en-US" sz="3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の大きさも情報量に合わせて、設定することができます。</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p:txBody>
      </p:sp>
      <p:sp>
        <p:nvSpPr>
          <p:cNvPr id="46" name=""/>
          <p:cNvSpPr/>
          <p:nvPr/>
        </p:nvSpPr>
        <p:spPr>
          <a:xfrm>
            <a:off x="1203840" y="22860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3:36Z</dcterms:modified>
  <cp:revision>21</cp:revision>
  <dc:subject/>
  <dc:title>PowerPoint プレゼンテーション</dc:title>
</cp:coreProperties>
</file>